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16F-28E7-45EC-AA02-3D98D5BB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1F0-68CC-4BDD-A11D-3FF6817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07D-C09D-447C-8736-789345E1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683-A9BC-4DE4-BFC5-EF7D6671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F61-70B7-46D7-9292-C4C1268E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5C3-2D19-4070-83C2-3908E10F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F66-0344-4541-AE1E-CECCD006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CAC-F2E4-4DD2-8AEA-56FEF5D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E2E-95A4-46FB-906F-279D536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789-D2F0-41A4-B440-AD47FC1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DDF-C668-4845-8EC1-64FE3D7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612-4940-45B4-81A6-6E5FCDE0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D050-09E9-4A90-82E6-49E96D66B27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esultado de imagen de proaire logotipo&quot;"/>
          <p:cNvPicPr/>
          <p:nvPr/>
        </p:nvPicPr>
        <p:blipFill>
          <a:blip r:embed="rId1"/>
          <a:stretch/>
        </p:blipFill>
        <p:spPr>
          <a:xfrm>
            <a:off x="900000" y="0"/>
            <a:ext cx="6840720" cy="550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egunda Reunión del Comité Núcle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42920" y="5660640"/>
            <a:ext cx="42087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21/noviembre/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Imagen 7" descr=""/>
          <p:cNvPicPr/>
          <p:nvPr/>
        </p:nvPicPr>
        <p:blipFill>
          <a:blip r:embed="rId2"/>
          <a:stretch/>
        </p:blipFill>
        <p:spPr>
          <a:xfrm>
            <a:off x="0" y="5445000"/>
            <a:ext cx="312732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28 Imagen" descr="SEMARNAT_logo_2012.png"/>
          <p:cNvPicPr/>
          <p:nvPr/>
        </p:nvPicPr>
        <p:blipFill>
          <a:blip r:embed="rId3"/>
          <a:stretch/>
        </p:blipFill>
        <p:spPr>
          <a:xfrm>
            <a:off x="6012000" y="189000"/>
            <a:ext cx="28429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087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16:43:54Z</dcterms:created>
  <dc:creator>Impacto</dc:creator>
  <dc:description/>
  <dc:language>en-US</dc:language>
  <cp:lastModifiedBy>Impacto</cp:lastModifiedBy>
  <dcterms:modified xsi:type="dcterms:W3CDTF">2020-10-13T17:30:48Z</dcterms:modified>
  <cp:revision>2</cp:revision>
  <dc:subject/>
  <dc:title>Segunda Reunión del Comité Núcleo.</dc:title>
</cp:coreProperties>
</file>